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FE8-DAE2-48FB-B272-9DC78185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1B26-2B0A-40EA-8C3B-D9FCC884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471E9-4017-4BFB-A2A9-F1B26E73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36154-E1B8-4335-A8A8-F7079D4E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66E13-A1B5-4201-80E1-59536424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FA5FC-B7C2-421D-981D-D8239EE8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BBCB6-ACAA-4FE6-9473-E9CEB776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3F608-244B-4570-B22D-7D4A96FA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714F3-DBD0-49CE-BF45-8F73AECC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AF6CD-79C6-4CA1-995F-C3AAB5D1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2253D-5E9F-4F98-9BF8-63529018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F2C24-9EBC-4E25-9E55-E5387407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5320-F98B-4097-9593-53FFEC86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6C618-6813-4179-88D1-DAD54F8E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D6AF4-2F3E-4D0C-8446-81DBDAB2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8FA09-4FB2-46A0-A929-EFCDBF3F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0118A-0964-47F0-B39B-E099BCEA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783B7-285A-4C89-AE8C-722D7F45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7C818-DE4A-4DB9-B9E6-F2C1A9EF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533D7-0288-4AB5-ADBB-A776E483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F3FE9-6B3A-4CFF-BECE-557AB66F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FEC2F-E721-418B-B377-80F4417C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9BFB5-9397-4FE2-B956-EB4A67A6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60A-8B18-4278-A4CE-8E29F319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BECE1-1E33-4EF9-A784-19D70924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1AB01-92A0-462E-BBF2-22C7F5D1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3658D-9210-4AA9-993C-75521060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8E19D-D413-407E-B42D-403F80C9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1EEC3-F880-42B7-AE2E-8C9B2D5E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FD74A-E1FA-4830-9DF7-F9936D01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AEE78-9C31-4E11-A588-2AB636D6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ABCDE-D82D-4D5D-A495-45DD7C8B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08E04-C18C-41B3-A2AB-D59893AD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70CB3-4749-4A01-8534-EC190A8E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081C-29EC-4420-B9DD-393B72C4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F4D32-AE22-4DF1-B30D-7947BA2D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246B0-753F-46F5-A5FA-2FE23451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925A7-976D-40C0-9786-25712F8E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B4B18-1A13-45B3-86E2-B6261FD9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B3CB5-24D4-489C-B159-FEFA810A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A2E6A-6F42-4BEC-81D2-103B12DE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35B96-99AF-433E-99A6-B2F73EA4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AF4BF-F558-40A6-917C-9B2D2295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2A319-6796-4F05-86D5-CE431F89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8E87E-8E9C-4218-8113-D5A5774E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9BCF-54D0-4AFE-A4DA-4D1B1346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76898-A300-4C31-96EF-EC50AFB5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CA06F-CAF0-4037-B6F4-89248543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9F2D9-F50A-4F3D-9EAD-F6E3743B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DE1C6-2797-4917-BE85-D8E522F9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31EDC-BE92-4DBB-BB45-E7886BBE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66218-FB2C-4BB1-9D9D-3C062FBE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0E67F-9E92-43C1-842D-D4F0432A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A4A60D-8059-4A9D-B88E-E56E98A4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08910-2C54-4A93-97F1-2EE9EC97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826E9-7B95-4258-AFB8-615EF913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C904-33B8-4CBB-84A6-6A46D7E2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4CC70-3963-4005-8A14-87D35E05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B1A6B-5145-4320-8A7F-673FED9D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85C34-B429-4A18-87D1-8005CA8F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32180-1EB1-4D92-8757-9BACD404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9CF0F-7BF7-40CE-B1FD-7B7D7D0C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4BAF1-0BF6-419B-B456-C3EB3CC6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C415E-F49C-4ED6-849A-4F66B159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149C-4541-4164-B7D2-BACF8643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90C4-6CCD-4CF1-9573-0C829F10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1E7E-6406-487F-93E2-35796292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0E3A-8FA2-43F8-8DA7-AE2157D1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3C8-83D1-410A-9AAA-FB95BEE7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7EAC-B62F-418E-BFB0-B0510840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7609-4B87-46D4-B821-119027DD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F7C1-341C-4B89-A882-2454F804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54BF-CC35-4F22-869A-499E878C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ED7F-1FD1-4B93-99A3-8FE56E84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6AEE8-7EF1-40B5-A76F-A09DD445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E53A8-C3BD-4B6F-9609-9370DB06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8C524-BC39-41A0-8047-62650AA8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4476D-9E25-45B5-9A46-6971FD93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4B32D-C722-47BF-92B9-E7F505CC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D9C3-EE3A-4700-9864-6FF03A3C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EB903-8B0C-4A07-9793-F8B01975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CE406-70E2-49D7-B8E4-F1E6913E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2FC08-52F4-4916-999F-2F3BB85C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DA385-666B-46DF-ACA2-1BFAF6CC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66B0B-FAD7-4A08-9900-6A4AC754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40261-D38A-4F96-8CDF-D5EE28D6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AA9E7-38D8-41ED-AFCB-6B047FA1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BFA5C-4231-4297-BA62-CF447D1E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479EC-A86E-447D-BAC8-405A6081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34DF5-4BF1-409A-A73B-CA6FE343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48F0-C66B-4317-8678-33F4723B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A398E-4DF3-43EA-A3B2-2B8CCA8D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54D2F-5C56-4197-AE68-712AA38E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4F2F9-5D30-4979-8268-36432232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0401E-D448-4314-A29D-852FD3F2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B6E38-E999-468A-A4ED-2EBDF9ED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DC4AA-E840-4C45-9BBF-F1D6B2AC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2F9CD-04F1-424E-B44A-87C9D6EE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B9B06-3509-4B79-8E5F-ADC82E65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57AB1-A6AE-4816-866B-C7B7721F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CF8DB-4F23-4EFC-9454-345880E0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DAB4-74B9-491F-9685-7684DD54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B8F0F-99D6-4552-9BED-1C03623C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A115F-16CB-4186-B787-E4F07AEC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962F1-BF73-452F-B6FF-3543E161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EA744-DBD0-4D1C-A6D0-710F0386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E3CC1-E0A8-4941-8298-3657AACD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5F1E1-0D5E-42CE-B62A-673BAFE7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2FA80-23E3-4E8B-84F9-98AE0F28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8517E-3F73-4CAE-8481-6C7A8C35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A1AF2-C951-4609-8712-6BF1067E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6BC6F-AA09-4DEE-82ED-494A9797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688-F9E8-468E-B783-15639348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59A99-DBD8-4681-A115-6E270C80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26A8F-024B-414E-BF65-77892572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FAAE9-1AB7-4F14-8558-BDFC7ED9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0F0FB-B947-4658-B7BA-DA33684C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9E7C6-CD50-4FD3-8D2A-ED5A8583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D386F-DEE8-4F82-B13C-F2EF812D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EDFDD-2E63-4F93-9FA8-2DCAB28B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83FFD-091B-4374-8DB6-796896B5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3675B-3CBF-4337-96F8-EF839E8A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663DC-4726-4581-A71E-6CB13F91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03D-46FE-49DF-9AC0-F7DDA005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FA928-108D-4AB4-9EF9-B2BD55F9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88F61-7B5F-4BF6-9958-B77D47DF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AE1AB-4EB6-4272-90E1-A934A1F2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926ED-45E4-4D62-8CC6-DBB14392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4D820-5C33-441D-AE22-238AC993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9C317-0525-4C9E-90E7-CED4EA36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1F722-8B74-4207-A04E-E79BD622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2BF13-9212-4A6B-B830-6431CD55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5A429-58FF-4770-91D6-D0D9C166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A3A5D-E4A1-4EBC-86AC-28506254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E88-95C0-4754-B805-F834A02B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A08F3-F676-46FE-BBB4-1473DD4F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78665-D198-4A12-A2CE-A3D45C8B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3A625-437D-4DBE-9224-0F571667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03D8C-6739-479E-9EFC-05D11BF9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64D34-E31A-43B7-AB5B-BB69A42E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A097F-9E9E-4EFC-9EDC-95746F88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EF792-AFCC-4EF7-B0E9-A330B0C6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A92F9-9008-469F-8674-DF433CE0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AD89E-7AAA-43F8-8AA6-099FD22E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1961E-0EE6-4BB0-AC08-27BE0EE1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1EAF-D908-4B8F-8E46-FF4A329A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4BF92-5F96-49E5-80FA-9439B8FC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BF947-E0F5-4DDA-B914-1AF6BF5B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46B1A-AA60-4B38-9FB8-9DDE4A9C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FFB5B-E6AB-423B-85D9-15B32AA8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0139A-7524-40B8-BED3-F96CC166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96C38-2AE6-4A6F-83A3-7A914BCD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DCED3-209A-4AE5-9239-2FA87D4C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08E3A-E01A-4EA5-9EB6-B8A2B33A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D1F92-A228-45FF-8B83-7C52B33E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EB83F-BDA9-4104-BC1B-F3B5F3DB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6ACB-83F4-4EAC-BA5B-4D76105C3564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6A12-127A-4B15-8C11-62A692DC0443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05F0-45E2-4CC6-A824-2D1161E721C6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F881-2FF5-4566-8BBA-E8CE207CED58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9B85-4445-4104-ADE5-665EB255F4A8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1D43-F7F1-47B3-ABDB-721A812CEF03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6484-A483-419B-91B8-816CF5D976CB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4543-55BD-4117-B7D6-F642C45CDD4F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5A12-775F-42E4-88A1-BC9EA17ADB00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09F8-30C4-4228-98F9-DA720E7B0A40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D90B-35E1-4E77-AFB2-99A86B93A088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2252-6EEA-46B1-B633-285C94695060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307E-E7F1-48BA-BEBE-2E38E9567E90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2CAD-490A-49B4-BB17-B70A8D2A3743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577D-0C6F-4BF8-8E9B-CBC4D44E664D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5DE3-3EFF-4DEA-83E1-A2168A182E6B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858A-7FFF-4399-94C6-D56FBAA2FBE6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57EF-CFDF-489D-ABD2-640CBBEA2D4D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AABD-59FA-4543-9718-3D708B6463C2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B590-DF05-455C-86C3-08DADEA00581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8F5E-78C4-49E7-BB97-D27662E6A952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1A55-9FF4-4778-B68A-CD7D9880FE1E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5326-28D0-40AE-9885-8FC36CC5644A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56B0-DD36-4F15-BD24-5DCE0C5DDA79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0014-5611-43F3-ADBE-A0B457E5A71E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1C65-3019-470C-8500-09D2AF901196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sto MT"/>
              </a:rPr>
              <a:t>USES OF PROMISSORY NOTES</a:t>
            </a:r>
            <a:endParaRPr b="0" lang="en-US" sz="34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536" name="Picture 4" descr="D:\C21 PowerPoint\Multi_Journal\art for blue\Ch23\Ch23-01a.jpg"/>
          <p:cNvPicPr/>
          <p:nvPr/>
        </p:nvPicPr>
        <p:blipFill>
          <a:blip r:embed="rId2"/>
          <a:srcRect l="7845" t="0" r="0" b="53787"/>
          <a:stretch/>
        </p:blipFill>
        <p:spPr>
          <a:xfrm>
            <a:off x="457200" y="914400"/>
            <a:ext cx="7467480" cy="3881520"/>
          </a:xfrm>
          <a:prstGeom prst="rect">
            <a:avLst/>
          </a:prstGeom>
          <a:ln w="0">
            <a:noFill/>
          </a:ln>
        </p:spPr>
      </p:pic>
      <p:sp>
        <p:nvSpPr>
          <p:cNvPr id="537" name="Oval 5"/>
          <p:cNvSpPr/>
          <p:nvPr/>
        </p:nvSpPr>
        <p:spPr>
          <a:xfrm>
            <a:off x="152280" y="29718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465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6"/>
          <p:cNvSpPr/>
          <p:nvPr/>
        </p:nvSpPr>
        <p:spPr>
          <a:xfrm>
            <a:off x="2286000" y="1143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465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9"/>
          <p:cNvSpPr/>
          <p:nvPr/>
        </p:nvSpPr>
        <p:spPr>
          <a:xfrm>
            <a:off x="7543800" y="12193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465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0"/>
          <p:cNvSpPr/>
          <p:nvPr/>
        </p:nvSpPr>
        <p:spPr>
          <a:xfrm>
            <a:off x="514440" y="5691240"/>
            <a:ext cx="26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ee of a no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1"/>
          <p:cNvSpPr/>
          <p:nvPr/>
        </p:nvSpPr>
        <p:spPr>
          <a:xfrm>
            <a:off x="514440" y="4952880"/>
            <a:ext cx="27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3665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Number of a no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514440" y="6054840"/>
            <a:ext cx="30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of a no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514440" y="5318280"/>
            <a:ext cx="26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 of a no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3809880" y="4952880"/>
            <a:ext cx="32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ipal of a no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5"/>
          <p:cNvSpPr/>
          <p:nvPr/>
        </p:nvSpPr>
        <p:spPr>
          <a:xfrm>
            <a:off x="3809880" y="5318280"/>
            <a:ext cx="36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est rate of a no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6"/>
          <p:cNvSpPr/>
          <p:nvPr/>
        </p:nvSpPr>
        <p:spPr>
          <a:xfrm>
            <a:off x="3809880" y="5681520"/>
            <a:ext cx="38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Maturity date of a no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7"/>
          <p:cNvSpPr/>
          <p:nvPr/>
        </p:nvSpPr>
        <p:spPr>
          <a:xfrm>
            <a:off x="3809880" y="6039000"/>
            <a:ext cx="33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Maker of a no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19"/>
          <p:cNvSpPr/>
          <p:nvPr/>
        </p:nvSpPr>
        <p:spPr>
          <a:xfrm>
            <a:off x="7315200" y="35053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465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Oval 20"/>
          <p:cNvSpPr/>
          <p:nvPr/>
        </p:nvSpPr>
        <p:spPr>
          <a:xfrm>
            <a:off x="152280" y="41148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465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Group 23"/>
          <p:cNvGrpSpPr/>
          <p:nvPr/>
        </p:nvGrpSpPr>
        <p:grpSpPr>
          <a:xfrm>
            <a:off x="7848720" y="2320920"/>
            <a:ext cx="914400" cy="533520"/>
            <a:chOff x="7848720" y="2320920"/>
            <a:chExt cx="914400" cy="533520"/>
          </a:xfrm>
        </p:grpSpPr>
        <p:sp>
          <p:nvSpPr>
            <p:cNvPr id="551" name="Line 22"/>
            <p:cNvSpPr/>
            <p:nvPr/>
          </p:nvSpPr>
          <p:spPr>
            <a:xfrm flipH="1">
              <a:off x="7848720" y="2590920"/>
              <a:ext cx="3808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Oval 7"/>
            <p:cNvSpPr/>
            <p:nvPr/>
          </p:nvSpPr>
          <p:spPr>
            <a:xfrm>
              <a:off x="8229600" y="232092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465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Group 25"/>
          <p:cNvGrpSpPr/>
          <p:nvPr/>
        </p:nvGrpSpPr>
        <p:grpSpPr>
          <a:xfrm>
            <a:off x="2971440" y="1600200"/>
            <a:ext cx="686160" cy="1066680"/>
            <a:chOff x="2971440" y="1600200"/>
            <a:chExt cx="686160" cy="1066680"/>
          </a:xfrm>
        </p:grpSpPr>
        <p:sp>
          <p:nvSpPr>
            <p:cNvPr id="554" name="Line 24"/>
            <p:cNvSpPr/>
            <p:nvPr/>
          </p:nvSpPr>
          <p:spPr>
            <a:xfrm flipH="1">
              <a:off x="2971440" y="2057400"/>
              <a:ext cx="304920" cy="6094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8"/>
            <p:cNvSpPr/>
            <p:nvPr/>
          </p:nvSpPr>
          <p:spPr>
            <a:xfrm>
              <a:off x="3124080" y="160020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465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Group 27"/>
          <p:cNvGrpSpPr/>
          <p:nvPr/>
        </p:nvGrpSpPr>
        <p:grpSpPr>
          <a:xfrm>
            <a:off x="3851280" y="3886200"/>
            <a:ext cx="533520" cy="938160"/>
            <a:chOff x="3851280" y="3886200"/>
            <a:chExt cx="533520" cy="938160"/>
          </a:xfrm>
        </p:grpSpPr>
        <p:sp>
          <p:nvSpPr>
            <p:cNvPr id="557" name="Oval 18"/>
            <p:cNvSpPr/>
            <p:nvPr/>
          </p:nvSpPr>
          <p:spPr>
            <a:xfrm>
              <a:off x="3851280" y="429084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465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26"/>
            <p:cNvSpPr/>
            <p:nvPr/>
          </p:nvSpPr>
          <p:spPr>
            <a:xfrm flipV="1">
              <a:off x="4114800" y="3886200"/>
              <a:ext cx="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Text Box 28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3-1, page 5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sto MT"/>
              </a:rPr>
              <a:t>INTEREST ON PROMISSORY NOTES</a:t>
            </a:r>
            <a:endParaRPr b="0" lang="en-US" sz="3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380880" y="1558800"/>
            <a:ext cx="7431120" cy="1008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861840"/>
                <a:tab algn="ctr" pos="1600200"/>
                <a:tab algn="ctr" pos="2516040"/>
                <a:tab algn="ctr" pos="3432240"/>
                <a:tab algn="ctr" pos="4349880"/>
                <a:tab algn="ctr" pos="5265720"/>
                <a:tab algn="ctr" pos="6630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e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est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861840"/>
                <a:tab algn="ctr" pos="1600200"/>
                <a:tab algn="ctr" pos="2516040"/>
                <a:tab algn="ctr" pos="3432240"/>
                <a:tab algn="ctr" pos="4349880"/>
                <a:tab algn="ctr" pos="5265720"/>
                <a:tab algn="ctr" pos="6630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cip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Yea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861840"/>
                <a:tab algn="ctr" pos="1600200"/>
                <a:tab algn="ctr" pos="2516040"/>
                <a:tab algn="ctr" pos="3432240"/>
                <a:tab algn="ctr" pos="4349880"/>
                <a:tab algn="ctr" pos="5265720"/>
                <a:tab algn="ctr" pos="6630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Group 14"/>
          <p:cNvGrpSpPr/>
          <p:nvPr/>
        </p:nvGrpSpPr>
        <p:grpSpPr>
          <a:xfrm>
            <a:off x="457200" y="914400"/>
            <a:ext cx="5486400" cy="764640"/>
            <a:chOff x="457200" y="914400"/>
            <a:chExt cx="5486400" cy="764640"/>
          </a:xfrm>
        </p:grpSpPr>
        <p:grpSp>
          <p:nvGrpSpPr>
            <p:cNvPr id="563" name="Group 4"/>
            <p:cNvGrpSpPr/>
            <p:nvPr/>
          </p:nvGrpSpPr>
          <p:grpSpPr>
            <a:xfrm>
              <a:off x="457200" y="914400"/>
              <a:ext cx="685440" cy="685440"/>
              <a:chOff x="457200" y="914400"/>
              <a:chExt cx="685440" cy="685440"/>
            </a:xfrm>
          </p:grpSpPr>
          <p:sp>
            <p:nvSpPr>
              <p:cNvPr id="564" name="Text Box 5"/>
              <p:cNvSpPr/>
              <p:nvPr/>
            </p:nvSpPr>
            <p:spPr>
              <a:xfrm>
                <a:off x="457200" y="914400"/>
                <a:ext cx="320400" cy="31680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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Text Box 6"/>
              <p:cNvSpPr/>
              <p:nvPr/>
            </p:nvSpPr>
            <p:spPr>
              <a:xfrm>
                <a:off x="822240" y="914400"/>
                <a:ext cx="320400" cy="31680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Text Box 7"/>
              <p:cNvSpPr/>
              <p:nvPr/>
            </p:nvSpPr>
            <p:spPr>
              <a:xfrm>
                <a:off x="457200" y="1283040"/>
                <a:ext cx="320400" cy="31680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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Text Box 8"/>
              <p:cNvSpPr/>
              <p:nvPr/>
            </p:nvSpPr>
            <p:spPr>
              <a:xfrm>
                <a:off x="822240" y="1280520"/>
                <a:ext cx="320400" cy="31680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Text Box 12"/>
            <p:cNvSpPr/>
            <p:nvPr/>
          </p:nvSpPr>
          <p:spPr>
            <a:xfrm>
              <a:off x="1305000" y="1219320"/>
              <a:ext cx="46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lculate Interest for One Y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Text Box 15"/>
          <p:cNvSpPr/>
          <p:nvPr/>
        </p:nvSpPr>
        <p:spPr>
          <a:xfrm>
            <a:off x="380880" y="3311640"/>
            <a:ext cx="7718400" cy="1008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861840"/>
                <a:tab algn="ctr" pos="1600200"/>
                <a:tab algn="ctr" pos="2516040"/>
                <a:tab algn="ctr" pos="3432240"/>
                <a:tab algn="ctr" pos="4349880"/>
                <a:tab algn="ctr" pos="5265720"/>
                <a:tab algn="ctr" pos="6630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e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me as Frac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est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861840"/>
                <a:tab algn="ctr" pos="1600200"/>
                <a:tab algn="ctr" pos="2516040"/>
                <a:tab algn="ctr" pos="3432240"/>
                <a:tab algn="ctr" pos="4349880"/>
                <a:tab algn="ctr" pos="5265720"/>
                <a:tab algn="ctr" pos="6630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cip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Yea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action of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861840"/>
                <a:tab algn="ctr" pos="1600200"/>
                <a:tab algn="ctr" pos="2516040"/>
                <a:tab algn="ctr" pos="3432240"/>
                <a:tab algn="ctr" pos="4349880"/>
                <a:tab algn="ctr" pos="5265720"/>
                <a:tab algn="ctr" pos="6630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Group 16"/>
          <p:cNvGrpSpPr/>
          <p:nvPr/>
        </p:nvGrpSpPr>
        <p:grpSpPr>
          <a:xfrm>
            <a:off x="457200" y="2666880"/>
            <a:ext cx="6468480" cy="764640"/>
            <a:chOff x="457200" y="2666880"/>
            <a:chExt cx="6468480" cy="764640"/>
          </a:xfrm>
        </p:grpSpPr>
        <p:grpSp>
          <p:nvGrpSpPr>
            <p:cNvPr id="571" name="Group 17"/>
            <p:cNvGrpSpPr/>
            <p:nvPr/>
          </p:nvGrpSpPr>
          <p:grpSpPr>
            <a:xfrm>
              <a:off x="457200" y="2666880"/>
              <a:ext cx="685440" cy="685440"/>
              <a:chOff x="457200" y="2666880"/>
              <a:chExt cx="685440" cy="685440"/>
            </a:xfrm>
          </p:grpSpPr>
          <p:sp>
            <p:nvSpPr>
              <p:cNvPr id="572" name="Text Box 18"/>
              <p:cNvSpPr/>
              <p:nvPr/>
            </p:nvSpPr>
            <p:spPr>
              <a:xfrm>
                <a:off x="457200" y="2666880"/>
                <a:ext cx="320400" cy="31680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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Text Box 19"/>
              <p:cNvSpPr/>
              <p:nvPr/>
            </p:nvSpPr>
            <p:spPr>
              <a:xfrm>
                <a:off x="822240" y="2666880"/>
                <a:ext cx="320400" cy="31680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Text Box 20"/>
              <p:cNvSpPr/>
              <p:nvPr/>
            </p:nvSpPr>
            <p:spPr>
              <a:xfrm>
                <a:off x="457200" y="3035520"/>
                <a:ext cx="320400" cy="31680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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 Box 21"/>
              <p:cNvSpPr/>
              <p:nvPr/>
            </p:nvSpPr>
            <p:spPr>
              <a:xfrm>
                <a:off x="822240" y="3033000"/>
                <a:ext cx="320400" cy="31680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Text Box 22"/>
            <p:cNvSpPr/>
            <p:nvPr/>
          </p:nvSpPr>
          <p:spPr>
            <a:xfrm>
              <a:off x="1304280" y="2971800"/>
              <a:ext cx="562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lculate Interest for Fraction of Y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Text Box 24"/>
          <p:cNvSpPr/>
          <p:nvPr/>
        </p:nvSpPr>
        <p:spPr>
          <a:xfrm>
            <a:off x="380880" y="5324400"/>
            <a:ext cx="5826600" cy="70380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861840"/>
                <a:tab algn="ctr" pos="1600200"/>
                <a:tab algn="ctr" pos="2516040"/>
                <a:tab algn="ctr" pos="3432240"/>
                <a:tab algn="ctr" pos="4799160"/>
                <a:tab algn="ctr" pos="5265720"/>
                <a:tab algn="ctr" pos="6630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cip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e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urity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861840"/>
                <a:tab algn="ctr" pos="1600200"/>
                <a:tab algn="ctr" pos="2516040"/>
                <a:tab algn="ctr" pos="3432240"/>
                <a:tab algn="ctr" pos="4799160"/>
                <a:tab algn="ctr" pos="5265720"/>
                <a:tab algn="ctr" pos="6630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Group 25"/>
          <p:cNvGrpSpPr/>
          <p:nvPr/>
        </p:nvGrpSpPr>
        <p:grpSpPr>
          <a:xfrm>
            <a:off x="457200" y="4495680"/>
            <a:ext cx="4554000" cy="764640"/>
            <a:chOff x="457200" y="4495680"/>
            <a:chExt cx="4554000" cy="764640"/>
          </a:xfrm>
        </p:grpSpPr>
        <p:grpSp>
          <p:nvGrpSpPr>
            <p:cNvPr id="579" name="Group 26"/>
            <p:cNvGrpSpPr/>
            <p:nvPr/>
          </p:nvGrpSpPr>
          <p:grpSpPr>
            <a:xfrm>
              <a:off x="457200" y="4495680"/>
              <a:ext cx="685440" cy="685440"/>
              <a:chOff x="457200" y="4495680"/>
              <a:chExt cx="685440" cy="685440"/>
            </a:xfrm>
          </p:grpSpPr>
          <p:sp>
            <p:nvSpPr>
              <p:cNvPr id="580" name="Text Box 27"/>
              <p:cNvSpPr/>
              <p:nvPr/>
            </p:nvSpPr>
            <p:spPr>
              <a:xfrm>
                <a:off x="457200" y="4495680"/>
                <a:ext cx="320400" cy="31680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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Text Box 28"/>
              <p:cNvSpPr/>
              <p:nvPr/>
            </p:nvSpPr>
            <p:spPr>
              <a:xfrm>
                <a:off x="822240" y="4495680"/>
                <a:ext cx="320400" cy="31680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Text Box 29"/>
              <p:cNvSpPr/>
              <p:nvPr/>
            </p:nvSpPr>
            <p:spPr>
              <a:xfrm>
                <a:off x="457200" y="4864320"/>
                <a:ext cx="320400" cy="31680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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Text Box 30"/>
              <p:cNvSpPr/>
              <p:nvPr/>
            </p:nvSpPr>
            <p:spPr>
              <a:xfrm>
                <a:off x="822240" y="4861800"/>
                <a:ext cx="320400" cy="31680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Text Box 31"/>
            <p:cNvSpPr/>
            <p:nvPr/>
          </p:nvSpPr>
          <p:spPr>
            <a:xfrm>
              <a:off x="1305360" y="4800600"/>
              <a:ext cx="370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lculate Maturity 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Text Box 13"/>
          <p:cNvSpPr/>
          <p:nvPr/>
        </p:nvSpPr>
        <p:spPr>
          <a:xfrm>
            <a:off x="380880" y="2193840"/>
            <a:ext cx="722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861840"/>
                <a:tab algn="ctr" pos="1600200"/>
                <a:tab algn="ctr" pos="2516040"/>
                <a:tab algn="ctr" pos="3432240"/>
                <a:tab algn="ctr" pos="4349880"/>
                <a:tab algn="ctr" pos="5265720"/>
                <a:tab algn="ctr" pos="6630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,000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2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3"/>
          <p:cNvSpPr/>
          <p:nvPr/>
        </p:nvSpPr>
        <p:spPr>
          <a:xfrm>
            <a:off x="380880" y="39466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861840"/>
                <a:tab algn="ctr" pos="1600200"/>
                <a:tab algn="ctr" pos="2516040"/>
                <a:tab algn="ctr" pos="3432240"/>
                <a:tab algn="ctr" pos="4349880"/>
                <a:tab algn="ctr" pos="5265720"/>
                <a:tab algn="ctr" pos="6630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,000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/36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33"/>
          <p:cNvSpPr/>
          <p:nvPr/>
        </p:nvSpPr>
        <p:spPr>
          <a:xfrm>
            <a:off x="380520" y="5638680"/>
            <a:ext cx="54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861840"/>
                <a:tab algn="ctr" pos="1600200"/>
                <a:tab algn="ctr" pos="2516040"/>
                <a:tab algn="ctr" pos="3432240"/>
                <a:tab algn="ctr" pos="4799160"/>
                <a:tab algn="ctr" pos="5265720"/>
                <a:tab algn="ctr" pos="6630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,000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,02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34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3-1, page 5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sto MT"/>
              </a:rPr>
              <a:t>MATURITY DATE OF PROMISSORY NOTES</a:t>
            </a:r>
            <a:endParaRPr b="0" lang="en-US" sz="29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822240" y="990720"/>
            <a:ext cx="6569280" cy="314244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49"/>
              </a:spcAft>
              <a:tabLst>
                <a:tab algn="l" pos="0"/>
                <a:tab algn="l" pos="449280"/>
                <a:tab algn="r" pos="548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ch 13, 90-Day N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449280"/>
                <a:tab algn="r" pos="548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13-March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449280"/>
                <a:tab algn="r" pos="548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449280"/>
                <a:tab algn="r" pos="548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449280"/>
                <a:tab algn="r" pos="548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 1-June 1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449280"/>
                <a:tab algn="r" pos="548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6"/>
          <p:cNvSpPr/>
          <p:nvPr/>
        </p:nvSpPr>
        <p:spPr>
          <a:xfrm>
            <a:off x="6553080" y="15415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465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7"/>
          <p:cNvSpPr/>
          <p:nvPr/>
        </p:nvSpPr>
        <p:spPr>
          <a:xfrm>
            <a:off x="6553080" y="258444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465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8"/>
          <p:cNvSpPr/>
          <p:nvPr/>
        </p:nvSpPr>
        <p:spPr>
          <a:xfrm>
            <a:off x="6553080" y="31068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465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9"/>
          <p:cNvSpPr/>
          <p:nvPr/>
        </p:nvSpPr>
        <p:spPr>
          <a:xfrm>
            <a:off x="6553080" y="206208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465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514440" y="582768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31 days for M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514440" y="4792680"/>
            <a:ext cx="69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Subtract the date of the note from the number of days in the first mon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514440" y="619128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only 11 days in Ju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3"/>
          <p:cNvSpPr/>
          <p:nvPr/>
        </p:nvSpPr>
        <p:spPr>
          <a:xfrm>
            <a:off x="514440" y="5454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30 days for Apr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3-1, page 5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1T00:27:23Z</dcterms:created>
  <dc:creator>Mary Colleen McLaughlin</dc:creator>
  <dc:description/>
  <dc:language>en-US</dc:language>
  <cp:lastModifiedBy>David Combs</cp:lastModifiedBy>
  <cp:lastPrinted>1999-04-09T21:03:21Z</cp:lastPrinted>
  <dcterms:modified xsi:type="dcterms:W3CDTF">2011-11-24T23:20:59Z</dcterms:modified>
  <cp:revision>70</cp:revision>
  <dc:subject/>
  <dc:title>ADJUSTING ENTRY FOR SUPPLIES</dc:title>
</cp:coreProperties>
</file>